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2A1-23EB-45F8-9BFB-3DEE8A17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797-BA23-441E-AC22-C8E2043A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7DC-A74B-4516-93FA-64915DA4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7E2-C56B-409A-A3A3-80F3C8CB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F0E-C6B9-4CC0-BDC2-DBEF36DF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C98-4141-4F6A-94EE-5ECCAF9F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205-F328-465B-94A4-FA4341CA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EC8-DAB1-42A3-A21F-9185E67A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5CF-2B89-4490-B457-EBDD256B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B88-C673-4B96-B366-D29E545D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FC0-1BC7-4D27-B610-18A7778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673-A3C0-4F92-86F0-4C7264D6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9B76-0AD3-41B7-9FEC-2B748A27E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lapeño Bage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 &amp; 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4572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 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I’ll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 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we’v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I’m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You’r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267080" y="2057400"/>
            <a:ext cx="4419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  <a:ea typeface="Chalkboard"/>
              </a:rPr>
              <a:t>8. I’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  <a:ea typeface="Chalkboard"/>
              </a:rPr>
              <a:t>9. it’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  <a:ea typeface="Chalkboard"/>
              </a:rPr>
              <a:t>10. we’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  <a:ea typeface="Chalkboard"/>
              </a:rPr>
              <a:t>11. can’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5720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5. isn’t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6. didn’t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7. you’ll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4114800" y="228600"/>
            <a:ext cx="4800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  <a:ea typeface="Chalkboard"/>
              </a:rPr>
              <a:t>12. they’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  <a:ea typeface="Chalkboard"/>
              </a:rPr>
              <a:t>13. wouldn’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lapeño Bage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I’m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5. didn’t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It’s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isn’t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can’t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0:46:15Z</dcterms:created>
  <dc:creator>Kathryn.Cobb</dc:creator>
  <dc:description/>
  <dc:language>en-US</dc:language>
  <cp:lastModifiedBy>Kathryn Cobb</cp:lastModifiedBy>
  <cp:lastPrinted>2009-03-20T11:03:12Z</cp:lastPrinted>
  <dcterms:modified xsi:type="dcterms:W3CDTF">2009-03-20T11:03:14Z</dcterms:modified>
  <cp:revision>5</cp:revision>
  <dc:subject/>
  <dc:title>Brothers &amp; Sisters Group A </dc:title>
</cp:coreProperties>
</file>